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44C-00D3-4A2D-8AAC-FF23AEB5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FC7-D438-4768-8BCA-AD1EDCFE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6E9-5ECC-4A0F-95DB-D60BCE15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506-B98A-46E2-8D9D-45E28324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4623-B755-49A7-8D3D-61ED5FA4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7F9D-58E5-4E7A-8044-A16CE16A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F6DD-DCF0-4883-AE1A-492FAE8F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E2B2-042A-4D0F-9A7D-26DB4C1E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1207-B093-4639-A301-DA4F5D63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D1A7-C74A-4820-A06C-087012A4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80C4-3B64-47B2-BF43-5F61A507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52E-7B64-4150-B6DB-0B9BF63A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E21D-F1A2-4A1F-9DE2-113040AF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7B5E-2543-4E14-AF11-8A9CE311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641C-8F27-4F6C-B7C1-DF50F8C0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6615-2507-4A8F-9162-55FF81D8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05EF-AD68-4BED-89FE-F0E0B3C6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F41-C28D-4B4C-AE9A-B2D1CFE2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719-334A-4346-96BD-CDE7D282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542-1C07-4CA3-82DE-0A02DF2A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565-49E4-4319-A7D5-1A9258A6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7E8-BCD1-4A5E-A9C2-D1DA65A9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76E-FC0F-49B9-851F-9C39C7EC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CDB-7AB3-4B3A-9DC7-B408B3BF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8ED4-74C0-4A33-8A73-7682C9BCAB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CE87-D4D5-4F1C-9DF9-F1B352A58E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OST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6640" y="104292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 figurą geometryczną, jaką je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otykasz się prawie na każdym ro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06640" y="1989000"/>
            <a:ext cx="2071440" cy="145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51280" y="1989000"/>
            <a:ext cx="2160720" cy="1435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6280" y="3409920"/>
            <a:ext cx="41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e-sochaczew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62360" y="3429000"/>
            <a:ext cx="41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pl.wikip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az 184" descr=""/>
          <p:cNvPicPr/>
          <p:nvPr/>
        </p:nvPicPr>
        <p:blipFill>
          <a:blip r:embed="rId3"/>
          <a:stretch/>
        </p:blipFill>
        <p:spPr>
          <a:xfrm>
            <a:off x="1467000" y="4387680"/>
            <a:ext cx="1306440" cy="1202040"/>
          </a:xfrm>
          <a:prstGeom prst="rect">
            <a:avLst/>
          </a:prstGeom>
          <a:ln w="0">
            <a:noFill/>
          </a:ln>
        </p:spPr>
      </p:pic>
      <p:pic>
        <p:nvPicPr>
          <p:cNvPr id="101" name="Obraz 185" descr=""/>
          <p:cNvPicPr/>
          <p:nvPr/>
        </p:nvPicPr>
        <p:blipFill>
          <a:blip r:embed="rId4"/>
          <a:stretch/>
        </p:blipFill>
        <p:spPr>
          <a:xfrm>
            <a:off x="3897360" y="4346640"/>
            <a:ext cx="2025720" cy="11970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86" descr="http://t2.gstatic.com/images?q=tbn:ANd9GcRwCoXnjh51CgDEVA45qCYqujndVfO05Z7rryGq2U5epdQ6m16OkA"/>
          <p:cNvPicPr/>
          <p:nvPr/>
        </p:nvPicPr>
        <p:blipFill>
          <a:blip r:embed="rId5"/>
          <a:stretch/>
        </p:blipFill>
        <p:spPr>
          <a:xfrm>
            <a:off x="6597720" y="4329000"/>
            <a:ext cx="1665360" cy="1244880"/>
          </a:xfrm>
          <a:prstGeom prst="rect">
            <a:avLst/>
          </a:prstGeom>
          <a:ln w="0">
            <a:noFill/>
          </a:ln>
        </p:spPr>
      </p:pic>
      <p:pic>
        <p:nvPicPr>
          <p:cNvPr id="103" name="Obraz 187" descr="http://ambinet.pl/film/ha/harry_potter1/plakat.jpg"/>
          <p:cNvPicPr/>
          <p:nvPr/>
        </p:nvPicPr>
        <p:blipFill>
          <a:blip r:embed="rId6"/>
          <a:stretch/>
        </p:blipFill>
        <p:spPr>
          <a:xfrm>
            <a:off x="6708600" y="1808280"/>
            <a:ext cx="1419480" cy="184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04840" y="3654360"/>
            <a:ext cx="247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isko do piłki nożnej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 kształ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16280" y="3654360"/>
            <a:ext cx="2476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isko do piłki koszykowej ma kształ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5589720"/>
            <a:ext cx="2476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naki drogowe np. te umieszczone przed przejazdem kolejowym również mają kształt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41640" y="5634000"/>
            <a:ext cx="24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ice informacyj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634000"/>
            <a:ext cx="2476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ja kartka z zeszytu, czy koperta też mają kształ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3654360"/>
            <a:ext cx="224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kat filmowy również ma kształ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UŻ WIESZ, Ż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50920" y="135900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6280" y="1763640"/>
            <a:ext cx="463572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tery bo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tery wierzchoł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tery kąty wewnętr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50920" y="35924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Ćwiczen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rawdź za pomocą kątomierza jaką miarę mają kąty prosto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50920" y="4869000"/>
            <a:ext cx="31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iara każdego kąta w prostokącie to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, czyli jest to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kąt pro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6280" y="275436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ażdy kąt prostokąta ma 9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97360" y="1314360"/>
            <a:ext cx="3465720" cy="5041800"/>
            <a:chOff x="5697360" y="1314360"/>
            <a:chExt cx="3465720" cy="5041800"/>
          </a:xfrm>
        </p:grpSpPr>
        <p:graphicFrame>
          <p:nvGraphicFramePr>
            <p:cNvPr id="118" name=""/>
            <p:cNvGraphicFramePr/>
            <p:nvPr/>
          </p:nvGraphicFramePr>
          <p:xfrm>
            <a:off x="5923080" y="1630080"/>
            <a:ext cx="2889000" cy="441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3080" y="1630080"/>
                      <a:ext cx="2889000" cy="44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"/>
            <p:cNvSpPr/>
            <p:nvPr/>
          </p:nvSpPr>
          <p:spPr>
            <a:xfrm>
              <a:off x="5742000" y="59878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67720" y="59878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6772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9736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50920" y="176364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4089240"/>
            <a:ext cx="148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AB| = |C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AD| = |BC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1000" y="5094360"/>
            <a:ext cx="39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nios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Przeciwległe boki prostokąta są równej dług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374840" y="2168640"/>
            <a:ext cx="4637160" cy="1352160"/>
            <a:chOff x="1374840" y="2168640"/>
            <a:chExt cx="4637160" cy="1352160"/>
          </a:xfrm>
        </p:grpSpPr>
        <p:sp>
          <p:nvSpPr>
            <p:cNvPr id="130" name=""/>
            <p:cNvSpPr/>
            <p:nvPr/>
          </p:nvSpPr>
          <p:spPr>
            <a:xfrm>
              <a:off x="1376640" y="2168640"/>
              <a:ext cx="463536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ztery bok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ztery wierzchołk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ztery kąty wewnętrz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74840" y="3152520"/>
              <a:ext cx="38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żdy kąt prostokąta ma 90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736640" y="3699000"/>
            <a:ext cx="337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6280" y="3511440"/>
            <a:ext cx="45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zeciwległe boki są równej dług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50920" y="104292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a pomocą linijki zmierz długości boków prostokąta. Zapisz wnio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697360" y="1314360"/>
            <a:ext cx="3465720" cy="5041800"/>
            <a:chOff x="5697360" y="1314360"/>
            <a:chExt cx="3465720" cy="5041800"/>
          </a:xfrm>
        </p:grpSpPr>
        <p:graphicFrame>
          <p:nvGraphicFramePr>
            <p:cNvPr id="136" name=""/>
            <p:cNvGraphicFramePr/>
            <p:nvPr/>
          </p:nvGraphicFramePr>
          <p:xfrm>
            <a:off x="5923080" y="1630080"/>
            <a:ext cx="2889000" cy="441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3080" y="1630080"/>
                      <a:ext cx="2889000" cy="44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5742000" y="59878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67720" y="59878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6772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9736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EKĄTNE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50920" y="238752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7000" y="508788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AC| = |B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50920" y="5634000"/>
            <a:ext cx="39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nios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Przekątne prostokąta są równej dług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36640" y="3699000"/>
            <a:ext cx="337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374840" y="2798640"/>
            <a:ext cx="4637160" cy="1711080"/>
            <a:chOff x="1374840" y="2798640"/>
            <a:chExt cx="4637160" cy="1711080"/>
          </a:xfrm>
        </p:grpSpPr>
        <p:grpSp>
          <p:nvGrpSpPr>
            <p:cNvPr id="149" name=""/>
            <p:cNvGrpSpPr/>
            <p:nvPr/>
          </p:nvGrpSpPr>
          <p:grpSpPr>
            <a:xfrm>
              <a:off x="1374840" y="2798640"/>
              <a:ext cx="4637160" cy="1352160"/>
              <a:chOff x="1374840" y="2798640"/>
              <a:chExt cx="4637160" cy="1352160"/>
            </a:xfrm>
          </p:grpSpPr>
          <p:sp>
            <p:nvSpPr>
              <p:cNvPr id="150" name=""/>
              <p:cNvSpPr/>
              <p:nvPr/>
            </p:nvSpPr>
            <p:spPr>
              <a:xfrm>
                <a:off x="1376640" y="2798640"/>
                <a:ext cx="4635360" cy="99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ztery bok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ztery wierzchołk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ztery kąty wewnętrz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74840" y="3782520"/>
                <a:ext cx="382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ażdy kąt prostokąta ma 90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376280" y="4141440"/>
              <a:ext cx="459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zeciwległe boki są równej długoś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150920" y="166212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mierz długość odcinków: AC i B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 zauważyłeś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6280" y="4502160"/>
            <a:ext cx="45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zekątne są równej dług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52360" y="954000"/>
            <a:ext cx="49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cinki łączące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zeciwległ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erzchołki prostokąta nazywa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zekątnym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697360" y="1314360"/>
            <a:ext cx="3465720" cy="5041800"/>
            <a:chOff x="5697360" y="1314360"/>
            <a:chExt cx="3465720" cy="5041800"/>
          </a:xfrm>
        </p:grpSpPr>
        <p:sp>
          <p:nvSpPr>
            <p:cNvPr id="157" name=""/>
            <p:cNvSpPr/>
            <p:nvPr/>
          </p:nvSpPr>
          <p:spPr>
            <a:xfrm>
              <a:off x="5742000" y="59878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67720" y="59878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6772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9736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5921280" y="1585800"/>
            <a:ext cx="2917800" cy="445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1280" y="1585800"/>
                      <a:ext cx="2917800" cy="445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7182000" y="391788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EKĄTNE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50920" y="180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50920" y="5753160"/>
            <a:ext cx="39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nios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Punkt O – punkt przeci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ę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cia przek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ą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tnych dzieli je na równe odcinki.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36640" y="3699000"/>
            <a:ext cx="337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50920" y="108900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 możesz powiedzieć o długościach odcinków AO i OC oraz BO i 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74840" y="2214720"/>
            <a:ext cx="4637160" cy="2071440"/>
            <a:chOff x="1374840" y="2214720"/>
            <a:chExt cx="4637160" cy="2071440"/>
          </a:xfrm>
        </p:grpSpPr>
        <p:grpSp>
          <p:nvGrpSpPr>
            <p:cNvPr id="171" name=""/>
            <p:cNvGrpSpPr/>
            <p:nvPr/>
          </p:nvGrpSpPr>
          <p:grpSpPr>
            <a:xfrm>
              <a:off x="1374840" y="2214720"/>
              <a:ext cx="4637160" cy="1711080"/>
              <a:chOff x="1374840" y="2214720"/>
              <a:chExt cx="4637160" cy="171108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1374840" y="2214720"/>
                <a:ext cx="4637160" cy="1352160"/>
                <a:chOff x="1374840" y="2214720"/>
                <a:chExt cx="4637160" cy="1352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376640" y="2214720"/>
                  <a:ext cx="4635360" cy="99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1125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ztery bok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1125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ztery wierzchołk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1125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ztery kąty wewnętrzn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374840" y="3198600"/>
                  <a:ext cx="3826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każdy kąt prostokąta ma 9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1376280" y="3557520"/>
                <a:ext cx="459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zeciwległe boki są równej długośc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376280" y="3917880"/>
              <a:ext cx="459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zekątne są równej długoś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697360" y="1314360"/>
            <a:ext cx="3465720" cy="5041800"/>
            <a:chOff x="5697360" y="1314360"/>
            <a:chExt cx="3465720" cy="5041800"/>
          </a:xfrm>
        </p:grpSpPr>
        <p:sp>
          <p:nvSpPr>
            <p:cNvPr id="178" name=""/>
            <p:cNvSpPr/>
            <p:nvPr/>
          </p:nvSpPr>
          <p:spPr>
            <a:xfrm>
              <a:off x="5742000" y="59878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67720" y="59878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6772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9736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5921280" y="1585800"/>
            <a:ext cx="2917800" cy="445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1280" y="1585800"/>
                      <a:ext cx="2917800" cy="445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"/>
            <p:cNvSpPr/>
            <p:nvPr/>
          </p:nvSpPr>
          <p:spPr>
            <a:xfrm>
              <a:off x="7182000" y="391788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367000" y="4944960"/>
            <a:ext cx="1485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AO| = |OC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BO| = |O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6280" y="4273560"/>
            <a:ext cx="45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unkt przecięcia przekątnych </a:t>
            </a:r>
            <a:br>
              <a:rPr sz="1800"/>
            </a:b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  dzieli je na połow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YSUJEMY PROST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50920" y="998640"/>
            <a:ext cx="6165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Narysuj prostokąt o bokach 4 cm i 3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763640"/>
            <a:ext cx="75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ysujemy dwi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ółproste prostopadł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 początku w punkci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270828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astępnie rysujemy odcinek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39400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Rysujemy odcinek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2079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Na półprostych odmierzamy odcinki o danych długości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637000" y="4417920"/>
            <a:ext cx="3825000" cy="2070000"/>
            <a:chOff x="2637000" y="4417920"/>
            <a:chExt cx="3825000" cy="2070000"/>
          </a:xfrm>
        </p:grpSpPr>
        <p:sp>
          <p:nvSpPr>
            <p:cNvPr id="195" name=""/>
            <p:cNvSpPr/>
            <p:nvPr/>
          </p:nvSpPr>
          <p:spPr>
            <a:xfrm flipH="1" flipV="1" rot="5400000">
              <a:off x="4505400" y="4751280"/>
              <a:ext cx="994680" cy="1817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 rot="5400000">
              <a:off x="3513960" y="3540240"/>
              <a:ext cx="2070000" cy="3825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V="1">
            <a:off x="6462720" y="4417560"/>
            <a:ext cx="0" cy="2070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36280" y="6488280"/>
            <a:ext cx="3825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6443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72360" y="644364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16640" y="409716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7000" y="405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637000" y="2664000"/>
            <a:ext cx="2069640" cy="3825000"/>
            <a:chOff x="2637000" y="2664000"/>
            <a:chExt cx="2069640" cy="3825000"/>
          </a:xfrm>
        </p:grpSpPr>
        <p:sp>
          <p:nvSpPr>
            <p:cNvPr id="204" name=""/>
            <p:cNvSpPr/>
            <p:nvPr/>
          </p:nvSpPr>
          <p:spPr>
            <a:xfrm flipH="1" flipV="1" rot="10800000">
              <a:off x="2966760" y="4120920"/>
              <a:ext cx="994680" cy="1817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 rot="10800000">
              <a:off x="2636640" y="2663640"/>
              <a:ext cx="2069640" cy="3825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152360" y="1278000"/>
            <a:ext cx="67503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 narysowania prostokąta będzie nam potrzebna ekier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637000" y="4419720"/>
            <a:ext cx="0" cy="2070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637360" y="4419720"/>
            <a:ext cx="3825000" cy="2069640"/>
            <a:chOff x="2637360" y="4419720"/>
            <a:chExt cx="3825000" cy="2069640"/>
          </a:xfrm>
        </p:grpSpPr>
        <p:sp>
          <p:nvSpPr>
            <p:cNvPr id="209" name=""/>
            <p:cNvSpPr/>
            <p:nvPr/>
          </p:nvSpPr>
          <p:spPr>
            <a:xfrm flipH="1" flipV="1" rot="16200000">
              <a:off x="3598560" y="4338000"/>
              <a:ext cx="994680" cy="1817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 rot="16200000">
              <a:off x="3514680" y="3541680"/>
              <a:ext cx="2069640" cy="3825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636280" y="4419720"/>
            <a:ext cx="3825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85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ŁUGOŚĆ I SZEROKOŚĆ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546280" y="2079720"/>
            <a:ext cx="4456080" cy="2707920"/>
            <a:chOff x="2546280" y="2079720"/>
            <a:chExt cx="4456080" cy="2707920"/>
          </a:xfrm>
        </p:grpSpPr>
        <p:grpSp>
          <p:nvGrpSpPr>
            <p:cNvPr id="216" name=""/>
            <p:cNvGrpSpPr/>
            <p:nvPr/>
          </p:nvGrpSpPr>
          <p:grpSpPr>
            <a:xfrm>
              <a:off x="2814840" y="2393280"/>
              <a:ext cx="3829680" cy="2072160"/>
              <a:chOff x="2814840" y="2393280"/>
              <a:chExt cx="3829680" cy="207216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2818800" y="2393280"/>
                <a:ext cx="3825720" cy="2069640"/>
                <a:chOff x="2818800" y="2393280"/>
                <a:chExt cx="3825720" cy="2069640"/>
              </a:xfrm>
            </p:grpSpPr>
            <p:sp>
              <p:nvSpPr>
                <p:cNvPr id="218" name=""/>
                <p:cNvSpPr/>
                <p:nvPr/>
              </p:nvSpPr>
              <p:spPr>
                <a:xfrm flipH="1">
                  <a:off x="2818800" y="2393640"/>
                  <a:ext cx="3825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6643800" y="2393280"/>
                  <a:ext cx="0" cy="206964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2814840" y="2395800"/>
                <a:ext cx="3828240" cy="2069640"/>
                <a:chOff x="2814840" y="2395800"/>
                <a:chExt cx="3828240" cy="2069640"/>
              </a:xfrm>
            </p:grpSpPr>
            <p:sp>
              <p:nvSpPr>
                <p:cNvPr id="221" name=""/>
                <p:cNvSpPr/>
                <p:nvPr/>
              </p:nvSpPr>
              <p:spPr>
                <a:xfrm flipH="1">
                  <a:off x="2817360" y="4460760"/>
                  <a:ext cx="3825720" cy="4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814840" y="2395800"/>
                  <a:ext cx="2880" cy="206964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3" name=""/>
            <p:cNvSpPr/>
            <p:nvPr/>
          </p:nvSpPr>
          <p:spPr>
            <a:xfrm>
              <a:off x="2546280" y="441936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46280" y="207972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97720" y="2079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95920" y="441936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537000" y="459900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ługość prosto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42000" y="3114720"/>
            <a:ext cx="20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zerokość prosto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81280" y="545472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ługość i szerokość prostokąta to jeg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ymi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04:11Z</dcterms:modified>
  <cp:revision>13</cp:revision>
  <dc:subject/>
  <dc:title>Slajd 1</dc:title>
</cp:coreProperties>
</file>